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3AA-2EDF-4297-B53D-C772AB02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2BD-F325-46F0-9A90-C0DE4686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614-C141-40FD-AC23-FB922CFC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371-D63A-4702-9CB8-079EC11A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2731-D0AC-41F9-B4A1-DE0415C0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617A-45DC-4F5F-BE36-2DD4088B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AD66-8A1D-4655-ABCB-6EF92ABE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7C64-CAEC-49FB-8DB9-AECBB602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DFEA-6C24-424F-AA7F-7DAB54D6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E63D-A0A1-41D0-AFC1-BCC1E327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83F8-4C31-4F6C-A366-36EB6152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939-4C19-469D-9918-949296BE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3A2D-3C89-424F-AD3D-8659EA47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05B5-5C44-4B7A-AD34-B641C315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6D27-2826-4787-BC2B-480FBEC5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D80D-F753-4619-82D5-5B9015C3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800C-2226-4E24-8C5F-6D7E52DE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CF12-9322-4568-BE14-238DE73F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2425-36D7-40D7-99AE-1613B63F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6345-2DB7-43EC-9A0F-CA8712D0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4D6F8-C30D-4BA3-B38B-733D9631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AB60E-55F7-46D9-83C1-F76E052C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E48-E95D-45D0-9F9A-E4CDD66A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B106B-2005-49AB-BD0B-09083276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0ABD-F516-42D5-8A0D-8CB90C2D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45A8-59FD-4C20-83D5-CE5C8CF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83378-1BD6-4ACF-BF16-15251F5B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1B39-5A16-42F6-8B18-BC0FBC35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B7A9-D2F3-4EA6-B691-34E103EB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E975-0CA6-4730-932B-9C0A6D0B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8D79B-7DB3-4A4C-8AB5-F8671027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FDE8-B054-4D4D-A6E7-68980063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7BCCB-AF1F-44BA-9F44-A91E9559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0A9-6D79-4E86-B6E0-BD887F2D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B47E-E705-46D7-9070-83793BFD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0308-D01D-47B7-883F-21BA3EA2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810DD-156A-4179-914B-6D139C86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EFA20-1CF0-4D8F-A447-4F1F8D2F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0342-AB65-4752-B41D-087C51D9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34A26-ECC1-4172-9D9E-1935249A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9AA0-2F85-4612-AA04-1D917A32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F76D3-569D-455F-8B8E-85018E0A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7EFBB-B984-499A-B70E-E37446E9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6FB32-7F13-43B5-AD3B-C06731F9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9BB-1080-4EB8-8077-FB001E0B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6F56A-F267-4CBA-9530-CB62EE24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55BDA-500D-4A94-8A73-8CE73198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17DF5-E32B-478F-899B-2424A563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202B8-BE77-42DC-8AD2-9F0D32F3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91F8C-5D7F-436C-B95D-51E8F825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5C324-DE24-428D-B499-DA598655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5084B-6203-4ECA-A100-6CE5818E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3D129-1188-42C1-A9B8-2DB31826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3BE5F-1CEA-4296-B536-FF893811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6138E-D898-4503-89F2-888F471C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025-C7E4-4ED7-A220-0C776009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F7639-7F63-40E2-BBED-94D9C9D1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A36A6-9E24-4C1D-9AEF-34ABED27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7958C-C236-4748-B70D-33FF364E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88CC8-755E-4AB3-9C7A-B25D61AF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D4525-B4F1-44BA-8DCE-D87E25CD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74514-6228-4D05-B1B3-AE5D608B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F566C-2E8C-458E-A165-46AA9AFE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2721F-ADA1-465A-927C-83974340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5BC48-DA51-4B92-8C66-E6880299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37493-F8A7-4BA7-84E4-3941EBF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D60-1BA1-4773-85F5-BF923D91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91384-3B27-4F3C-822F-A4A77C23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24967-43B0-4B80-80B5-AB623503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0873A-19AF-49A6-977C-97CCFC29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87A4C-CD3D-4244-959E-32680B4B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4852D-A79B-4EB1-96DF-DE938D3D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954DF-F9C2-4DB4-BDF8-3E359FD8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744C1-6D08-4601-919B-19B41A3D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3DA77-71D0-469B-9DA7-EF43A80D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D2B72-78E3-4263-AF94-02492DC4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8D57E-2A1A-4EB3-92B6-B71D2368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761-192B-4BBF-90E6-C0357271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34ABD-7457-412C-B2D3-DAF5844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699A9-2AFB-43BA-BFBF-927A7C5B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BB58F-EF6F-48A6-84AB-807932BB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8D51B-8C44-4381-B41B-B18EDEAE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0C252-349B-4E4E-A4E6-DE01E50A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032-95C6-435A-AA70-B39EE55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469A-B179-4CA6-A9DA-B168E8B989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F065-8714-4C6E-82A0-1ABAF1DD79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6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B962-7F81-4040-AE4E-C260F4734B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F8BF-7529-47E3-A7E1-FB288F5B4F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E548-9790-493C-9800-FB0B532262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6B70-6BFD-4DC4-B622-BC9A3DFB9D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307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447F-4244-4F3D-8A53-97CDC4CCC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Snap IT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nap ITC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84640"/>
            <a:ext cx="44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4932360" cy="3645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 rot="20226600">
            <a:off x="2272680" y="3427920"/>
            <a:ext cx="511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408b8"/>
                </a:solidFill>
                <a:latin typeface="Viner Hand ITC"/>
              </a:rPr>
              <a:t>       </a:t>
            </a:r>
            <a:r>
              <a:rPr b="0" lang="en-NZ" sz="3600" spc="-1" strike="noStrike">
                <a:solidFill>
                  <a:srgbClr val="408f2d"/>
                </a:solidFill>
                <a:latin typeface="Viner Hand ITC"/>
              </a:rPr>
              <a:t>Jade Hinsley-Sco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408f2d"/>
                </a:solidFill>
                <a:latin typeface="Viner Hand ITC"/>
              </a:rPr>
              <a:t>         </a:t>
            </a:r>
            <a:r>
              <a:rPr b="0" lang="en-NZ" sz="3600" spc="-1" strike="noStrike">
                <a:solidFill>
                  <a:srgbClr val="408f2d"/>
                </a:solidFill>
                <a:latin typeface="Viner Hand ITC"/>
              </a:rPr>
              <a:t>My portfol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356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Viner Hand ITC"/>
              </a:rPr>
              <a:t>     </a:t>
            </a:r>
            <a:r>
              <a:rPr b="0" lang="en-NZ" sz="9600" spc="-1" strike="noStrike">
                <a:solidFill>
                  <a:srgbClr val="ffffff"/>
                </a:solidFill>
                <a:latin typeface="Viner Hand ITC"/>
              </a:rPr>
              <a:t>Term 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Snap ITC"/>
              </a:rPr>
              <a:t>My Reading G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92929"/>
                </a:solidFill>
                <a:latin typeface="Snap ITC"/>
              </a:rPr>
              <a:t>Current reading level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292929"/>
                </a:solidFill>
                <a:latin typeface="Snap ITC"/>
              </a:rPr>
              <a:t>              </a:t>
            </a:r>
            <a:r>
              <a:rPr b="0" lang="en-NZ" sz="8800" spc="-1" strike="noStrike">
                <a:solidFill>
                  <a:srgbClr val="292929"/>
                </a:solidFill>
                <a:latin typeface="Snap ITC"/>
              </a:rPr>
              <a:t>13 years</a:t>
            </a:r>
            <a:endParaRPr b="0" lang="en-US" sz="8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-620640" y="4292640"/>
            <a:ext cx="1241280" cy="2565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0" y="350028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Snap ITC"/>
              </a:rPr>
              <a:t>Read lots of book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5564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Snap ITC"/>
              </a:rPr>
              <a:t>Read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400" spc="-1" strike="noStrike">
                <a:solidFill>
                  <a:srgbClr val="292929"/>
                </a:solidFill>
                <a:latin typeface="Snap ITC"/>
              </a:rPr>
              <a:t>My reading goal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400" spc="-1" strike="noStrike">
                <a:solidFill>
                  <a:srgbClr val="292929"/>
                </a:solidFill>
                <a:latin typeface="Snap ITC"/>
              </a:rPr>
              <a:t>I will be reading at 13.5 and my comprehension at 85%, by the end of term 3.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92929"/>
                </a:solidFill>
                <a:latin typeface="Snap ITC"/>
              </a:rPr>
              <a:t>How am I going to achieve thi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92929"/>
                </a:solidFill>
                <a:latin typeface="Snap ITC"/>
              </a:rPr>
              <a:t>By reading books with harder words in the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92929"/>
                </a:solidFill>
                <a:latin typeface="Snap ITC"/>
              </a:rPr>
              <a:t>Books with different subjects not just my normal interest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92929"/>
                </a:solidFill>
                <a:latin typeface="Snap ITC"/>
              </a:rPr>
              <a:t>By reading more text typ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Book Antiqua"/>
              </a:rPr>
              <a:t>Writ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292929"/>
                </a:solidFill>
                <a:latin typeface="Book Antiqua"/>
              </a:rPr>
              <a:t>My writing goal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292929"/>
                </a:solidFill>
                <a:latin typeface="Book Antiqua"/>
              </a:rPr>
              <a:t>To make most of my  texts in my writing have some humour in them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2920" y="15998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292929"/>
                </a:solidFill>
                <a:latin typeface="Book Antiqua"/>
              </a:rPr>
              <a:t>I will achieve this goal by: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292929"/>
                </a:solidFill>
                <a:latin typeface="Book Antiqua"/>
              </a:rPr>
              <a:t>Reading text types that have humour in them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292929"/>
                </a:solidFill>
                <a:latin typeface="Book Antiqua"/>
              </a:rPr>
              <a:t>Practice writing unrealistic texts so they get people hooked into the story, poem etc… that I am writing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current maths leve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5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5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5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58200" indent="-358200">
              <a:lnSpc>
                <a:spcPct val="80000"/>
              </a:lnSpc>
              <a:spcBef>
                <a:spcPts val="75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66ff66"/>
                </a:solidFill>
                <a:latin typeface="Arial"/>
              </a:rPr>
              <a:t>    </a:t>
            </a:r>
            <a:r>
              <a:rPr b="0" lang="en-NZ" sz="30000" spc="-1" strike="noStrike">
                <a:solidFill>
                  <a:srgbClr val="66ff66"/>
                </a:solidFill>
                <a:latin typeface="Viner Hand ITC"/>
              </a:rPr>
              <a:t>S: </a:t>
            </a:r>
            <a:r>
              <a:rPr b="0" lang="en-NZ" sz="30000" spc="-1" strike="noStrike">
                <a:solidFill>
                  <a:srgbClr val="292929"/>
                </a:solidFill>
                <a:latin typeface="Viner Hand ITC"/>
              </a:rPr>
              <a:t>9</a:t>
            </a:r>
            <a:r>
              <a:rPr b="0" lang="en-NZ" sz="30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0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300" spc="-1" strike="noStrike">
                <a:solidFill>
                  <a:srgbClr val="330033"/>
                </a:solidFill>
                <a:latin typeface="Curlz MT"/>
              </a:rPr>
              <a:t>MY Maths Goal</a:t>
            </a:r>
            <a:r>
              <a:rPr b="0" lang="en-NZ" sz="3800" spc="-1" strike="noStrike">
                <a:solidFill>
                  <a:srgbClr val="330033"/>
                </a:solidFill>
                <a:latin typeface="Curlz MT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500" spc="-1" strike="noStrike">
                <a:solidFill>
                  <a:srgbClr val="000000"/>
                </a:solidFill>
                <a:latin typeface="Curlz MT"/>
              </a:rPr>
              <a:t>My maths goal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5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0" lang="en-NZ" sz="3500" spc="-1" strike="noStrike">
                <a:solidFill>
                  <a:srgbClr val="000000"/>
                </a:solidFill>
                <a:latin typeface="Curlz MT"/>
              </a:rPr>
              <a:t>Is to learn my 12 times tables and be able to recall them quickly by the end of Term 3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ff0000"/>
                </a:solidFill>
                <a:latin typeface="Curlz MT"/>
              </a:rPr>
              <a:t>I am going to achieve my goal by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ff0000"/>
                </a:solidFill>
                <a:latin typeface="Curlz MT"/>
              </a:rPr>
              <a:t>Practicing my 12 times tables every night at hom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ff0000"/>
                </a:solidFill>
                <a:latin typeface="Curlz MT"/>
              </a:rPr>
              <a:t>By doing them as part of my homework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ff0000"/>
                </a:solidFill>
                <a:latin typeface="Curlz MT"/>
              </a:rPr>
              <a:t>By practising them at schoo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1280" y="155700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4851360" y="1980720"/>
            <a:ext cx="3759120" cy="19875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17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Curlz MT"/>
              </a:rPr>
              <a:t>12x1=12 12x2=24 </a:t>
            </a:r>
            <a:r>
              <a:rPr b="0" lang="en-NZ" sz="4800" spc="-1" strike="noStrike">
                <a:solidFill>
                  <a:srgbClr val="000000"/>
                </a:solidFill>
                <a:latin typeface="Curlz MT"/>
              </a:rPr>
              <a:t>12x3=36 12x4=48 12x5=60 12x6=72</a:t>
            </a:r>
            <a:r>
              <a:rPr b="0" lang="en-NZ" sz="4800" spc="-1" strike="noStrike">
                <a:solidFill>
                  <a:srgbClr val="ffffff"/>
                </a:solidFill>
                <a:latin typeface="Curlz MT"/>
              </a:rPr>
              <a:t> 12x7=84 12x8=96 12x9=108 12x10=120 12x11=132 12x12=144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0"/>
            <a:ext cx="9144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urlz MT"/>
              </a:rPr>
              <a:t>Evidence of my Maths go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y topic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Bradley Hand ITC"/>
              </a:rPr>
              <a:t>To finish everything in my topic and to keep up with the work been given ou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408b8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408b8"/>
                </a:solidFill>
                <a:latin typeface="Bradley Hand ITC"/>
              </a:rPr>
              <a:t>How I can achieve th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Bradley Hand ITC"/>
              </a:rPr>
              <a:t>Keep on task at all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Bradley Hand ITC"/>
              </a:rPr>
              <a:t>Not get distracted when other people are not behaving sensib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22:39:21Z</dcterms:created>
  <dc:creator>colinmccahon</dc:creator>
  <dc:description/>
  <dc:language>en-US</dc:language>
  <cp:lastModifiedBy>colinmccahon</cp:lastModifiedBy>
  <dcterms:modified xsi:type="dcterms:W3CDTF">2011-11-10T23:48:13Z</dcterms:modified>
  <cp:revision>23</cp:revision>
  <dc:subject/>
  <dc:title>Jade Hinsley-Scott</dc:title>
</cp:coreProperties>
</file>